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E2A-DE79-4337-BB84-D388DB6B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FE6-0EA4-4406-BD72-8895D09B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AE4-D9B6-4705-B3EB-603B1594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17D-DD05-4797-BA25-1B271740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ADB-171F-4ECE-921A-CD46CCE5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0DC-4B95-4B72-9F5E-172D8F0D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991-53F1-4393-9006-2086E27A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217-4247-4608-A7FB-3AB5BED7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0F1-FB48-4882-86CB-674B1F20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E2F-7540-40B6-B853-A1C271C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96B-5CA2-4220-8991-B3D304E7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57D-A823-4295-9606-DB4935E4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63FB-6DA3-4867-B2F2-2CC0B075C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омпьютерная графика. Создание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оделей в графическом редакторе»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ктионов Костя 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КУ Таскинская О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544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643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писок литерату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43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И. Мураховский «Компьютерная графика», Москва, издательство «АСТ-ПРЕСС», 2002 год, стр. 16-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лий Леонтьев «Новейшая энциклопедия персонального компьютера 2005», Москва, издательство «Олма-пресс», 2005 год, стр. 462-4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Г. Гейн, А.И. Сенокосов, Н.А. Юнерман «Информатика 10-11 кл.», Москва, издательство «Просвещение», 2001 год, стр. 48-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В. Симонович, Г.А. Евсеев «Занимательный компьютер», Москва, издательство «АСТ-ПРЕСС», 2003 год, стр. 26-2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мпьютер для детей», Москва, издательство «АСТ-ПРЕСС», 2000 год, стр. 1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Фролов «Энциклопед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003», Москва, ЗАО «Новый издательский дом», 2004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арова «Информатика», Москва, издательство «Финансы и статистика»,  2004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 Могилев, Н.И. Пак, Е.К. Хеннер «Информатика», Москва, издательств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 2003 год, стр. 167-1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А. Хлебанина энциклопедия для детей, том 22 «Информатика», Москва, издательство «Аванта», 2003 год, стр. 298-3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Д. Угринович «Информатика и информационные технологии 10-11 классы», Москва, издательство «Бином», 2003 год, стр. 304-3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значимость, как можно глубже изучить и обобщить знания по теме «Компьютерная графика. Создание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ей в графическом редакто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Изучение литературы по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овести иссле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одготовить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 обычном графическом редакторе создать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л иссле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ёл информацию в интернете о том что такое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дробнее изучил компьютерную граф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пытался создать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 в обычном графическом редактор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3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7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5T00:59:52Z</dcterms:created>
  <dc:creator>Пользователь</dc:creator>
  <dc:description/>
  <dc:language>en-US</dc:language>
  <cp:lastModifiedBy>Пользователь</cp:lastModifiedBy>
  <dcterms:modified xsi:type="dcterms:W3CDTF">2019-04-16T02:54:22Z</dcterms:modified>
  <cp:revision>6</cp:revision>
  <dc:subject/>
  <dc:title>«Компьютерная графика. Создание 3D моделей в графическом редакторе». </dc:title>
</cp:coreProperties>
</file>